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355-C2DF-4BD9-85BD-124C0577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C59-64D7-4F18-B0A9-71F700FC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7BD-F416-450A-90EA-5EADDF17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C23-7F65-44B6-87CE-E3FE35F0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B0E9-C53B-499A-BE71-64EDA7E6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A461-B781-46FE-ABAD-40752F81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6656-6596-48BA-9A00-2BB99B85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445D-2FFB-4AF2-861D-D0EF1957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8355-492C-4408-95D3-B87A2B24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B1CF-ED73-42BC-B46B-064BAEC5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BCB3-25E5-40ED-BA01-9FC75E84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8F5-FF4F-4D6B-8E48-29997831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5512-633B-42C8-B05A-DB09ED8C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E52B-5BAD-4F49-B6C0-B58F74DB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0BB9-2008-4DA5-BFC3-C70E188D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4BDC-91AF-41C0-BD80-DA48C529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A5CC-FA44-44B0-9E03-16D891C1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FFF-29E0-46A9-B2EB-456D7A10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9EA-F20F-40A1-83A5-D22241C4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663-67A8-413E-87D1-03AD113C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F55-2E7F-44C9-BD39-A4DE94DA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FD4-B1C4-4BF8-9A4E-9767C107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2DA-B64E-40BE-A406-87BB97CC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23A-992B-4DFF-B0BE-6316A537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CB56-DD53-4A67-A37A-716E1BD8B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CAB0-EC91-40C9-9691-3F4CFF9C0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license@u.washington.edu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:\Documents and Settings\xavier\My Documents\RosettaOrg\RosettaDesignGroup\RosettaCon2007 Workshop\talks\Kaufmann\7cpa_ligand.mo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RosettaLigand to Investigate Protein Small Molecule Interfaces: Present and Future Pos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stian Kauf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iler 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derbilt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ettaCon 2007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5240" y="2743200"/>
            <a:ext cx="2438280" cy="1946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setta Finds Correct Placement of Side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6095880" cy="4572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5" name=""/>
          <p:cNvSpPr/>
          <p:nvPr/>
        </p:nvSpPr>
        <p:spPr>
          <a:xfrm>
            <a:off x="865800" y="467352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ena"/>
              </a:rPr>
              <a:t>RMSD </a:t>
            </a:r>
            <a:r>
              <a:rPr b="0" lang="en-US" sz="1200" spc="-1" strike="noStrike">
                <a:solidFill>
                  <a:srgbClr val="000000"/>
                </a:solidFill>
                <a:latin typeface="verdena"/>
                <a:ea typeface="Times New Roman"/>
              </a:rPr>
              <a:t>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-420480" y="349020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ena"/>
              </a:rPr>
              <a:t>Rosetta S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1557360"/>
          <a:ext cx="2361960" cy="118584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3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fm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p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fm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p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0" y="6400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900"/>
                </a:solidFill>
                <a:latin typeface="Times New Roman"/>
              </a:rPr>
              <a:t>R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rg ligand + protein</a:t>
            </a:r>
            <a:r>
              <a:rPr b="0" lang="en-US" sz="2400" spc="-1" strike="noStrike">
                <a:solidFill>
                  <a:srgbClr val="ff0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3ff"/>
                </a:solidFill>
                <a:latin typeface="Times New Roman"/>
              </a:rPr>
              <a:t>Cyan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fm9 protein Grey+</a:t>
            </a:r>
            <a:r>
              <a:rPr b="0" lang="en-US" sz="2400" spc="-1" strike="noStrike">
                <a:solidFill>
                  <a:srgbClr val="00ff08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6002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Nuclear Receptor: Ligand from 1fm9 in Protein from 2p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settaLigand Typical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inpu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Protocol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result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input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pdb file of protei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3D coordinates of each input conformation for the target lig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appropriate Rosetta atom types to ligand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allowed atomtypes can be found in aaproperties_pack.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CHARGE record if ligand has a formal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41972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HETATM   69 OOC   XXX   900       6.496  36.593  -4.741  1.00  0.00          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HETATM   70 OOC   XXX   900       8.418  36.540  -3.720  1.00  0.00          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HETATM   71 NH2O XXX   900       0.676  35.825  -2.688  1.00  0.00          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HETATM   72 Hpol   XXX   900       0.435  36.495  -1.930  1.00  0.00          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adi MT Condensed Light"/>
              </a:rPr>
              <a:t>CHARGE                                       -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3880" y="1562040"/>
            <a:ext cx="4724640" cy="3657600"/>
          </a:xfrm>
          <a:prstGeom prst="parallelogram">
            <a:avLst>
              <a:gd name="adj" fmla="val 60358"/>
            </a:avLst>
          </a:prstGeom>
          <a:solidFill>
            <a:srgbClr val="00ff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king Coordinate 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171880"/>
            <a:ext cx="4114800" cy="2514600"/>
          </a:xfrm>
          <a:prstGeom prst="ellipse">
            <a:avLst/>
          </a:prstGeom>
          <a:solidFill>
            <a:srgbClr val="bbe0e3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2781360"/>
            <a:ext cx="11430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3162240"/>
            <a:ext cx="457200" cy="457200"/>
          </a:xfrm>
          <a:prstGeom prst="diamond">
            <a:avLst/>
          </a:prstGeom>
          <a:solidFill>
            <a:srgbClr val="ff0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33908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1562040"/>
            <a:ext cx="304560" cy="36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523880" y="1562040"/>
            <a:ext cx="472464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110484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ector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352680" y="3390480"/>
            <a:ext cx="14479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4495320" y="3390480"/>
            <a:ext cx="3049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00800" y="51213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s of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3428640"/>
            <a:ext cx="12952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590560" y="44956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819520" y="495288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943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 Vectors Defining Docking Coordinate 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266688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21337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095880" y="236232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2133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ocol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k rigid body gradient min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tta.exe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ck -dock_min -ligand\ </a:t>
            </a:r>
            <a:r>
              <a:rPr b="0" i="1" lang="en-US" sz="2400" spc="-1" strike="noStrike">
                <a:solidFill>
                  <a:srgbClr val="2000e7"/>
                </a:solidFill>
                <a:latin typeface="Arial"/>
              </a:rPr>
              <a:t>protocol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ries aa -protein 7cpa -chain A\ </a:t>
            </a:r>
            <a:r>
              <a:rPr b="0" i="1" lang="en-US" sz="2400" spc="-1" strike="noStrike">
                <a:solidFill>
                  <a:srgbClr val="2000e7"/>
                </a:solidFill>
                <a:latin typeface="Arial"/>
              </a:rPr>
              <a:t>file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 7cpa_7cpa.pdb\ </a:t>
            </a:r>
            <a:r>
              <a:rPr b="0" i="1" lang="en-US" sz="2400" spc="-1" strike="noStrike">
                <a:solidFill>
                  <a:srgbClr val="2000e7"/>
                </a:solidFill>
                <a:latin typeface="Arial"/>
              </a:rPr>
              <a:t>inpu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ck_pert 4 4 95\ </a:t>
            </a:r>
            <a:r>
              <a:rPr b="0" i="1" lang="en-US" sz="2400" spc="-1" strike="noStrike">
                <a:solidFill>
                  <a:srgbClr val="2000e7"/>
                </a:solidFill>
                <a:latin typeface="Arial"/>
              </a:rPr>
              <a:t>docking rigid body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1 2 -ex2\ </a:t>
            </a:r>
            <a:r>
              <a:rPr b="0" i="1" lang="en-US" sz="2400" spc="-1" strike="noStrike">
                <a:solidFill>
                  <a:srgbClr val="2000e7"/>
                </a:solidFill>
                <a:latin typeface="Arial"/>
              </a:rPr>
              <a:t>sidechain sampling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struct 2000\ </a:t>
            </a:r>
            <a:r>
              <a:rPr b="0" i="1" lang="en-US" sz="2400" spc="-1" strike="noStrike">
                <a:solidFill>
                  <a:srgbClr val="2000e7"/>
                </a:solidFill>
                <a:latin typeface="Arial"/>
              </a:rPr>
              <a:t>number of outpu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k_structure.cc contains th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initialized produces a model every 1-2 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ocol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k metropolis montecarlo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tta.exe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ock -dock_mcm -ligand\ </a:t>
            </a:r>
            <a:r>
              <a:rPr b="0" i="1" lang="en-US" sz="1800" spc="-1" strike="noStrike">
                <a:solidFill>
                  <a:srgbClr val="2000e7"/>
                </a:solidFill>
                <a:latin typeface="Arial"/>
              </a:rPr>
              <a:t>protocol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ries bb -protein 7cpa -chain _\ </a:t>
            </a:r>
            <a:r>
              <a:rPr b="0" i="1" lang="en-US" sz="1800" spc="-1" strike="noStrike">
                <a:solidFill>
                  <a:srgbClr val="2000e7"/>
                </a:solidFill>
                <a:latin typeface="Arial"/>
              </a:rPr>
              <a:t>file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 7cpa_7cpa.pdb\ </a:t>
            </a:r>
            <a:r>
              <a:rPr b="0" i="1" lang="en-US" sz="1800" spc="-1" strike="noStrike">
                <a:solidFill>
                  <a:srgbClr val="2000e7"/>
                </a:solidFill>
                <a:latin typeface="Arial"/>
              </a:rPr>
              <a:t>inpu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ock_pert 0.5 0.5 5\ </a:t>
            </a:r>
            <a:r>
              <a:rPr b="0" i="1" lang="en-US" sz="1800" spc="-1" strike="noStrike">
                <a:solidFill>
                  <a:srgbClr val="2000e7"/>
                </a:solidFill>
                <a:latin typeface="Arial"/>
              </a:rPr>
              <a:t>docking rigid body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x1 2 -ex2\ </a:t>
            </a:r>
            <a:r>
              <a:rPr b="0" i="1" lang="en-US" sz="1800" spc="-1" strike="noStrike">
                <a:solidFill>
                  <a:srgbClr val="2000e7"/>
                </a:solidFill>
                <a:latin typeface="Arial"/>
              </a:rPr>
              <a:t>sidechain sampl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output_input_pdb\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2000e7"/>
                </a:solidFill>
                <a:latin typeface="Arial"/>
              </a:rPr>
              <a:t>performs protocol without initial rigid body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struct 5\ </a:t>
            </a:r>
            <a:r>
              <a:rPr b="0" i="1" lang="en-US" sz="1800" spc="-1" strike="noStrike">
                <a:solidFill>
                  <a:srgbClr val="2000e7"/>
                </a:solidFill>
                <a:latin typeface="Arial"/>
              </a:rPr>
              <a:t>number of output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king_minimize.cc docking_mcm_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initialized produces a model every 5-10 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-5000 models recommended for a run with at least 150 models per ligand co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ica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vs RMSD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ligand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energy contributions of side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3429000"/>
          <a:ext cx="3962520" cy="305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29000"/>
                    <a:ext cx="396252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191120" y="1289160"/>
            <a:ext cx="4952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and Contribution Energy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_sum:    -10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_rep:      0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_atr:    -15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_sol:      9.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_cou:     -1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_hb :     -3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_sas:      6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_con:       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n_sat:   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n_non: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_sat: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_non: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to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and “rotamers” to simulate small molecule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atom typ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design in the presence of a flexible lig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 in the future small molecul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stian Kauf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-support@rosettacommon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anyiso.kaufmann@vanderbil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s Me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s.meiler@vanderbil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n Yen (Licen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Ventures UW Tech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11 11th Avenue NE, Suite 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ttle, WA 98105-46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206) 616-34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206) 616-3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cense@u.washington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es of Int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ettaLigand distributes formal charge equally across the input lig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igand.cc update_hetero_atom_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other atomty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ing relies primarily on hydrogen bonding and van der Waals interactions followed by solvation and electrost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tomtype can be added if necess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properties_pack.cc, aaproperties_pack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able.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_elec_ns.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atom_extra_props.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itialization of MAX_ATOM_TYPES and MAX_REAL_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ettaLigand What it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ettaLigand How to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ettaLigand Where it is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settaLigand Small Molecule Docking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4160" y="3110040"/>
            <a:ext cx="3274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ient Based Rigid Body Min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84160" y="4513320"/>
            <a:ext cx="3274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dom Perturbation of Lig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on and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4160" y="5156280"/>
            <a:ext cx="32749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f Protein-Ligand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91" idx="1"/>
            <a:endCxn id="88" idx="2"/>
          </p:cNvCxnSpPr>
          <p:nvPr/>
        </p:nvCxnSpPr>
        <p:spPr>
          <a:xfrm flipV="1" rot="10800000">
            <a:off x="2521800" y="4700520"/>
            <a:ext cx="3977280" cy="340200"/>
          </a:xfrm>
          <a:prstGeom prst="bentConnector4">
            <a:avLst>
              <a:gd name="adj1" fmla="val 29419"/>
              <a:gd name="adj2" fmla="val 1673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6499080" y="4419720"/>
            <a:ext cx="1403640" cy="56196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y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2"/>
            <a:endCxn id="88" idx="0"/>
          </p:cNvCxnSpPr>
          <p:nvPr/>
        </p:nvCxnSpPr>
        <p:spPr>
          <a:xfrm>
            <a:off x="2522160" y="4325400"/>
            <a:ext cx="108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228600" y="2362320"/>
            <a:ext cx="2246400" cy="934920"/>
          </a:xfrm>
          <a:prstGeom prst="flowChartMultidocumen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emble of Lig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2200" y="2362320"/>
            <a:ext cx="2152800" cy="934920"/>
          </a:xfrm>
          <a:prstGeom prst="flowChartMultidocumen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emble of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2"/>
            <a:endCxn id="93" idx="0"/>
          </p:cNvCxnSpPr>
          <p:nvPr/>
        </p:nvCxnSpPr>
        <p:spPr>
          <a:xfrm flipH="1" rot="16200000">
            <a:off x="1665360" y="2909520"/>
            <a:ext cx="542160" cy="1170720"/>
          </a:xfrm>
          <a:prstGeom prst="bentConnector3">
            <a:avLst>
              <a:gd name="adj1" fmla="val 568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5" idx="2"/>
            <a:endCxn id="93" idx="0"/>
          </p:cNvCxnSpPr>
          <p:nvPr/>
        </p:nvCxnSpPr>
        <p:spPr>
          <a:xfrm rot="5400000">
            <a:off x="2858400" y="2886120"/>
            <a:ext cx="542160" cy="1218240"/>
          </a:xfrm>
          <a:prstGeom prst="bentConnector3">
            <a:avLst>
              <a:gd name="adj1" fmla="val 568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03360" y="3765600"/>
            <a:ext cx="3836880" cy="560160"/>
          </a:xfrm>
          <a:prstGeom prst="flowChartPreparat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k Random Ligand and place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dom Orientation and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1" idx="2"/>
            <a:endCxn id="89" idx="0"/>
          </p:cNvCxnSpPr>
          <p:nvPr/>
        </p:nvCxnSpPr>
        <p:spPr>
          <a:xfrm flipV="1" rot="10800000">
            <a:off x="7200360" y="4981320"/>
            <a:ext cx="1080" cy="175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5564160" y="2362320"/>
            <a:ext cx="327492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ck Side Chains (Rotamer Trial or Complete Combinatorial Optimiz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2"/>
            <a:endCxn id="87" idx="0"/>
          </p:cNvCxnSpPr>
          <p:nvPr/>
        </p:nvCxnSpPr>
        <p:spPr>
          <a:xfrm>
            <a:off x="7202160" y="288900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7" idx="2"/>
            <a:endCxn id="102" idx="0"/>
          </p:cNvCxnSpPr>
          <p:nvPr/>
        </p:nvCxnSpPr>
        <p:spPr>
          <a:xfrm>
            <a:off x="7202160" y="363708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5564160" y="3846600"/>
            <a:ext cx="327492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te Carlo Accep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102" idx="2"/>
            <a:endCxn id="91" idx="0"/>
          </p:cNvCxnSpPr>
          <p:nvPr/>
        </p:nvCxnSpPr>
        <p:spPr>
          <a:xfrm flipH="1">
            <a:off x="7200720" y="4160520"/>
            <a:ext cx="2160" cy="25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88" idx="3"/>
            <a:endCxn id="99" idx="1"/>
          </p:cNvCxnSpPr>
          <p:nvPr/>
        </p:nvCxnSpPr>
        <p:spPr>
          <a:xfrm flipV="1">
            <a:off x="4158720" y="2625120"/>
            <a:ext cx="1405440" cy="215172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190440" y="62485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iler and Baker Proteins 2006 Nov 15;65(3):538-4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o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/>
          </p:cNvPr>
          <p:cNvSpPr/>
          <p:nvPr/>
        </p:nvSpPr>
        <p:spPr>
          <a:xfrm>
            <a:off x="3733920" y="251460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7301"/>
                </a:moveTo>
                <a:lnTo>
                  <a:pt x="7706" y="7301"/>
                </a:lnTo>
                <a:lnTo>
                  <a:pt x="8089" y="7667"/>
                </a:lnTo>
                <a:lnTo>
                  <a:pt x="17297" y="7667"/>
                </a:lnTo>
                <a:lnTo>
                  <a:pt x="17854" y="8224"/>
                </a:lnTo>
                <a:lnTo>
                  <a:pt x="17854" y="8772"/>
                </a:lnTo>
                <a:lnTo>
                  <a:pt x="19699" y="8772"/>
                </a:lnTo>
                <a:lnTo>
                  <a:pt x="20065" y="8224"/>
                </a:lnTo>
                <a:lnTo>
                  <a:pt x="20805" y="8224"/>
                </a:lnTo>
                <a:lnTo>
                  <a:pt x="20805" y="13376"/>
                </a:lnTo>
                <a:lnTo>
                  <a:pt x="20065" y="13376"/>
                </a:lnTo>
                <a:lnTo>
                  <a:pt x="19699" y="12828"/>
                </a:lnTo>
                <a:lnTo>
                  <a:pt x="17854" y="12828"/>
                </a:lnTo>
                <a:lnTo>
                  <a:pt x="17854" y="14107"/>
                </a:lnTo>
                <a:lnTo>
                  <a:pt x="8271" y="14107"/>
                </a:lnTo>
                <a:lnTo>
                  <a:pt x="8271" y="9877"/>
                </a:lnTo>
                <a:lnTo>
                  <a:pt x="8089" y="9877"/>
                </a:lnTo>
                <a:lnTo>
                  <a:pt x="7706" y="10243"/>
                </a:lnTo>
                <a:lnTo>
                  <a:pt x="6792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895840" cy="44830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5410080" y="2209680"/>
            <a:ext cx="1143000" cy="1219320"/>
            <a:chOff x="5410080" y="2209680"/>
            <a:chExt cx="1143000" cy="1219320"/>
          </a:xfrm>
        </p:grpSpPr>
        <p:sp>
          <p:nvSpPr>
            <p:cNvPr id="111" name=""/>
            <p:cNvSpPr/>
            <p:nvPr/>
          </p:nvSpPr>
          <p:spPr>
            <a:xfrm>
              <a:off x="5486400" y="220968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10080" y="281952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5000" y="251460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15000" y="304812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5880" y="281952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105520" y="2057400"/>
            <a:ext cx="1600200" cy="160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2743200"/>
            <a:ext cx="114300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362320"/>
            <a:ext cx="533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419720"/>
            <a:ext cx="1600200" cy="160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209680"/>
            <a:ext cx="4114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 der Waals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drogen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lombic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icit solva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mer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king Bench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3276360" cy="2219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276360" cy="224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794880" y="1600200"/>
            <a:ext cx="195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4d4d4d"/>
                </a:solidFill>
                <a:latin typeface="Verdana"/>
              </a:rPr>
              <a:t>-Thrombin with MD-8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562720"/>
            <a:ext cx="312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4d4d4d"/>
                </a:solidFill>
                <a:latin typeface="Verdana"/>
              </a:rPr>
              <a:t>-Thrombin with Benzyldi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Banner, D. W. and Hadvary, P. (1991) </a:t>
            </a:r>
            <a:r>
              <a:rPr b="0" i="1" lang="en-US" sz="1200" spc="-1" strike="noStrike">
                <a:solidFill>
                  <a:srgbClr val="4d4d4d"/>
                </a:solidFill>
                <a:latin typeface="Verdana"/>
              </a:rPr>
              <a:t>J. Biol. Chem.</a:t>
            </a: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, 266, 200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334120" y="4038480"/>
            <a:ext cx="3276360" cy="22114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3276360" cy="22417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"/>
          <p:cNvSpPr/>
          <p:nvPr/>
        </p:nvSpPr>
        <p:spPr>
          <a:xfrm>
            <a:off x="41911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50292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Docking” Benchmark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 Protein-Ligand Compl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523880"/>
            <a:ext cx="8839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 complexes with RMSD of lowest scoring model smaller than 2Å; 89 complexes with RMSD of one model in lowest scoring percentile smaller 2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305920" cy="3540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880" y="274320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DB MIN   LOW RANK &lt;2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76440" y="274320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DB MIN    LOW  RANK &lt;2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74320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DB MIN    LOW RANK &lt;2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2743200"/>
            <a:ext cx="41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PDB MIN  LOW  RANK &lt;2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king Bench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3276360" cy="2219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276360" cy="224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0" name=""/>
          <p:cNvSpPr/>
          <p:nvPr/>
        </p:nvSpPr>
        <p:spPr>
          <a:xfrm>
            <a:off x="794880" y="1600200"/>
            <a:ext cx="195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4d4d4d"/>
                </a:solidFill>
                <a:latin typeface="Verdana"/>
              </a:rPr>
              <a:t>-Thrombin with MD-8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5562720"/>
            <a:ext cx="312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4d4d4d"/>
                </a:solidFill>
                <a:latin typeface="Verdana"/>
              </a:rPr>
              <a:t>-Thrombin with Benzyldi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Banner, D. W. and Hadvary, P. (1991) </a:t>
            </a:r>
            <a:r>
              <a:rPr b="0" i="1" lang="en-US" sz="1200" spc="-1" strike="noStrike">
                <a:solidFill>
                  <a:srgbClr val="4d4d4d"/>
                </a:solidFill>
                <a:latin typeface="Verdana"/>
              </a:rPr>
              <a:t>J. Biol. Chem.</a:t>
            </a: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, 266, 200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4120" y="4038480"/>
            <a:ext cx="3276360" cy="22114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3276360" cy="22417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4" name=""/>
          <p:cNvSpPr/>
          <p:nvPr/>
        </p:nvSpPr>
        <p:spPr>
          <a:xfrm>
            <a:off x="4191120" y="2438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50292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8883800">
            <a:off x="4229280" y="354276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2716200">
            <a:off x="4229280" y="36954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-Docking” Benchmark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 Protein-Ligand Compl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523880"/>
            <a:ext cx="1981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0 proteins in complex with 2 ligands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70 (80)% best RMSD below 2.0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75 (90)% below 2.0Å in first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22640" y="1754280"/>
            <a:ext cx="6827760" cy="48751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457200" y="5510160"/>
            <a:ext cx="1371600" cy="662040"/>
            <a:chOff x="457200" y="5510160"/>
            <a:chExt cx="1371600" cy="662040"/>
          </a:xfrm>
        </p:grpSpPr>
        <p:sp>
          <p:nvSpPr>
            <p:cNvPr id="152" name=""/>
            <p:cNvSpPr/>
            <p:nvPr/>
          </p:nvSpPr>
          <p:spPr>
            <a:xfrm>
              <a:off x="964800" y="551016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4d4d4d"/>
                  </a:solidFill>
                  <a:latin typeface="Verdana"/>
                </a:rPr>
                <a:t>Prote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" y="5865480"/>
              <a:ext cx="86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4d4d4d"/>
                  </a:solidFill>
                  <a:latin typeface="Verdana"/>
                </a:rPr>
                <a:t>Lig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57200" y="5510160"/>
              <a:ext cx="1371600" cy="662040"/>
              <a:chOff x="457200" y="5510160"/>
              <a:chExt cx="1371600" cy="662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57200" y="5510160"/>
                <a:ext cx="1371600" cy="662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7200" y="5510160"/>
                <a:ext cx="1371600" cy="6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2209680" y="13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121932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21932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21760" y="1309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D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1430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e conformations + Native D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8:16:50Z</dcterms:created>
  <dc:creator>Kristian Kaufmann</dc:creator>
  <dc:description/>
  <dc:language>en-US</dc:language>
  <cp:lastModifiedBy>x</cp:lastModifiedBy>
  <cp:lastPrinted>1904-01-01T00:00:00Z</cp:lastPrinted>
  <dcterms:modified xsi:type="dcterms:W3CDTF">2007-08-03T01:05:05Z</dcterms:modified>
  <cp:revision>16</cp:revision>
  <dc:subject/>
  <dc:title>Using RosettaLigand to Invesitgate Protein Small Molecule Interfaces: Present and Future Possibilities</dc:title>
</cp:coreProperties>
</file>